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52D5-3F87-4E87-8250-119CABA58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ECA5-EB65-4D75-8F48-16A002F7F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8772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4-</a:t>
            </a:r>
            <a:fld id="{DD470C35-3103-42F9-A538-E43DF93A343A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4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ob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der and Overallocated Indire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>
              <a:spcBef>
                <a:spcPts val="601"/>
              </a:spcBef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08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[$40 x 27,000 hours]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1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2971800"/>
            <a:ext cx="495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-allocated 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3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4305240" y="875880"/>
            <a:ext cx="228600" cy="3657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0"/>
                </a:lnTo>
                <a:cubicBezTo>
                  <a:pt x="10800" y="9890"/>
                  <a:pt x="5400" y="10790"/>
                  <a:pt x="0" y="10790"/>
                </a:cubicBezTo>
                <a:cubicBezTo>
                  <a:pt x="5400" y="10790"/>
                  <a:pt x="10800" y="11690"/>
                  <a:pt x="10800" y="1259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4114800"/>
            <a:ext cx="8229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write-off over or under-allocated overhead to cost of goods sold at the end of the y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rating the difference among the ending inventory and cost of goods sold accounts can be done if the amount is material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5 - 19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in the Service Indust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1500"/>
              </a:spcBef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budgeted direct labour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4,40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budgeted 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2,9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direct professional labour-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88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8 - 12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28954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direct labour rate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4,400,000 / 288,000 = $50 per hou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indirect-cost rate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2,960,000 / 288,000 = $45 per hou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47242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an Aud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labour  ($50 per hour x 800 hours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($45 per hour x 800 hours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36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System Terminolo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ything for which a separate measurement of costs is desi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that are related to a particular cost object in an economically feasible (Cost-effective) mann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grouping of individual cost ite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factor that is the common denominator for systematically linking an indirect cost or group of indirect costs to a 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08 - 1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re assigned to a distinct unit or bat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ources are expended to bring a distinct product or service to market for a specific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ertising campaign, audit, aircraft assemb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295280"/>
            <a:ext cx="0" cy="38124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295280"/>
            <a:ext cx="0" cy="38124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1447920"/>
            <a:ext cx="449568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752480"/>
            <a:ext cx="3886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re assigned to a mass of similar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ources are used to mass-produce a product or service and not for any specific custom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stal delivery, oil refin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09 - 1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Approa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cost object(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0- 1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6765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direct costs for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ect cost-allocation bases to use in allocating the indirect costs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indirect costs associated with each cost-allocation bas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rate per unit of each cost-allocation base to allocate indirect costs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indirect costs allocated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7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cost of the cost object(s) by adding the direct and 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590920" cy="79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1219320"/>
            <a:ext cx="4647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Overhea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1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038480" y="3200400"/>
            <a:ext cx="4907160" cy="1235160"/>
            <a:chOff x="4038480" y="3200400"/>
            <a:chExt cx="4907160" cy="1235160"/>
          </a:xfrm>
        </p:grpSpPr>
        <p:sp>
          <p:nvSpPr>
            <p:cNvPr id="67" name=""/>
            <p:cNvSpPr/>
            <p:nvPr/>
          </p:nvSpPr>
          <p:spPr>
            <a:xfrm>
              <a:off x="4038480" y="3657600"/>
              <a:ext cx="4907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4000"/>
            </a:bodyPr>
            <a:p>
              <a:pPr marL="322200" indent="-322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45 per direc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2200" indent="-322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nufacturing Labour Hour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77120" y="3200400"/>
              <a:ext cx="0" cy="3808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62120" y="4495680"/>
            <a:ext cx="7772400" cy="1752840"/>
            <a:chOff x="762120" y="4495680"/>
            <a:chExt cx="7772400" cy="1752840"/>
          </a:xfrm>
        </p:grpSpPr>
        <p:sp>
          <p:nvSpPr>
            <p:cNvPr id="70" name=""/>
            <p:cNvSpPr/>
            <p:nvPr/>
          </p:nvSpPr>
          <p:spPr>
            <a:xfrm>
              <a:off x="6477120" y="4495680"/>
              <a:ext cx="0" cy="3812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00400" y="5638680"/>
              <a:ext cx="10666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24280" y="4952880"/>
              <a:ext cx="3810240" cy="1219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 Object: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+ Indirect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5334120"/>
              <a:ext cx="25905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Labou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5943600"/>
              <a:ext cx="10666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276720" y="1219320"/>
            <a:ext cx="304560" cy="838080"/>
          </a:xfrm>
          <a:custGeom>
            <a:avLst/>
            <a:gdLst>
              <a:gd name="textAreaLeft" fmla="*/ 0 w 304560"/>
              <a:gd name="textAreaRight" fmla="*/ 10980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1 - 11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2057400"/>
            <a:ext cx="8539200" cy="1066680"/>
            <a:chOff x="609480" y="2057400"/>
            <a:chExt cx="8539200" cy="1066680"/>
          </a:xfrm>
        </p:grpSpPr>
        <p:sp>
          <p:nvSpPr>
            <p:cNvPr id="78" name=""/>
            <p:cNvSpPr/>
            <p:nvPr/>
          </p:nvSpPr>
          <p:spPr>
            <a:xfrm>
              <a:off x="609480" y="2286000"/>
              <a:ext cx="259092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marL="298440" indent="-29844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298440" indent="-298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llocation Bas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86200" y="2362320"/>
              <a:ext cx="5262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2000"/>
            </a:bodyPr>
            <a:p>
              <a:pPr marL="315360" indent="-315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7,000 Direct Manufacturing Labour-Hours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77120" y="2057400"/>
              <a:ext cx="0" cy="304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76720" y="2286000"/>
              <a:ext cx="304560" cy="8380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Period for Indirect-Cost R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ually calculate indirect-cost rates once each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a yearly rate because using a shorter period of time (such as monthly or quarterly) would cause the rate to be higher or lower at different times during the year due 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asonality of costs (higher heating costs in the winter month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luctuating volumes (units produced in low volume months would be charged a greater cost)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5 - 1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rmal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ormal costing is a method that traces  direct costs to a cost objec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indirect-cost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Budgeted total cost in indirect-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total quantity of the cost-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6 - 11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365760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 company budgets for manufacturing overhead of $1,280,000 and direct manufacturing labour-hours of 32,00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502920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udgeted indirect-cost rate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 $1,280,000 / 32,00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 $40 per direct manufacturing labour-hour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System in Manufactur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086240" y="2361960"/>
            <a:ext cx="1676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Goods Sold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8880" y="3048120"/>
            <a:ext cx="15242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100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23623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048120"/>
            <a:ext cx="1523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23623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Work-In-Process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048120"/>
            <a:ext cx="1523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362320"/>
            <a:ext cx="1524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048120"/>
            <a:ext cx="15242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5238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Bu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286000"/>
            <a:ext cx="0" cy="12193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3505320"/>
            <a:ext cx="6094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31240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Us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505320"/>
            <a:ext cx="13716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49568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cur Labou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33412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cur Overhea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057400" y="3733560"/>
            <a:ext cx="1447920" cy="11430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86000" y="4038480"/>
            <a:ext cx="1219320" cy="15242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3505320"/>
            <a:ext cx="15238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3124080"/>
            <a:ext cx="1447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mplet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31240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el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3505320"/>
            <a:ext cx="13716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8 - 12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rect Costs and End-of-Period Adjust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 the end of the period, there is usually a difference between indirect costs incurred and indirect costs allocated to work-in-process during the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4 - 12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3992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50594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983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743200"/>
            <a:ext cx="8763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 allocation rate x actual volume of wor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886200"/>
            <a:ext cx="8839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-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urr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-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urr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0:15:28Z</dcterms:created>
  <dc:creator>User</dc:creator>
  <dc:description/>
  <dc:language>en-US</dc:language>
  <cp:lastModifiedBy>John Moore</cp:lastModifiedBy>
  <cp:lastPrinted>1999-06-03T01:59:16Z</cp:lastPrinted>
  <dcterms:modified xsi:type="dcterms:W3CDTF">2003-03-22T13:11:06Z</dcterms:modified>
  <cp:revision>12</cp:revision>
  <dc:subject/>
  <dc:title>No Slide Title</dc:title>
</cp:coreProperties>
</file>